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3D9-02CF-4C4C-834C-B630F4DD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191-8110-4B69-A629-32A2409E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7A2-7805-4BC4-ACB0-CD117FFB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AE8-2111-4478-B08C-6366A20D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DC1-BB51-462B-B38A-EC13C164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BA9-DAC7-4F34-8459-62D3056A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5DD-B987-4137-AA96-34D3A6F3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55C-A2A6-4CE8-914C-6B3A8E06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35F-EA40-41B3-AD84-75309B2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EB2-5BC1-4AC9-B06F-E21CCE0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BDC-A75C-41FB-8C52-B52B5410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2AC-7904-4BAA-8153-58B7EC5D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2F3B-EC44-411E-A875-BBE5DDB3B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Mathematical Modeling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inear 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858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685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678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580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858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85800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64832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828960"/>
            <a:ext cx="7315200" cy="150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315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221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010640" cy="135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7010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6858000" cy="1175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6858000" cy="86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05720" y="502920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276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6858000" cy="1022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95280" y="3733920"/>
            <a:ext cx="6858000" cy="863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81680" y="4267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666880"/>
            <a:ext cx="30456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4724280"/>
            <a:ext cx="693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9343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934320" cy="209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6248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170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685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9:55:04Z</dcterms:modified>
  <cp:revision>43</cp:revision>
  <dc:subject/>
  <dc:title>PowerPoint Presentation</dc:title>
</cp:coreProperties>
</file>